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1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6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C02-8350-467F-A85B-7F6C0FDE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416D-5501-46E2-BFAA-47AF63A4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3ADA-1CC5-44FD-AE27-9D6B4F5A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5C3-AD3C-41D6-801D-ADD7D4B4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BCE3-05DB-40A9-B008-4F4AE17A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B63E-551A-4E71-AE85-6226A2C6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2ABD-90BF-4E94-9F9D-A50CF702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C12B-E81F-4228-981A-89BF0815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3E87-E9A3-465E-8AE7-69476C48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BA29-0276-4060-82A1-E3D50C10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F359-EE33-4520-81A9-EE1E606D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FE69-8A0B-44E1-BB7A-DA6F43BC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CDDB-66C1-40D0-9DC2-F6E0521E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2494-ECB4-4998-9708-37F89EFE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562D-3046-48E6-85FA-E4F2F41F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6071-664A-45C6-A74A-9EC88C6D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A6C8-559A-420E-B9CD-3D4A0AB8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3421-9A28-4019-BA18-722C2097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36AD0-5811-46D8-9A46-A367E7D0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1B045-38E3-4FA0-9C50-A8FC9A10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8B70A-8EA4-4079-B2D0-BB1CDC70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5C82A-833D-4D1B-A58C-B52A814A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8911-E7A2-444C-B51F-97EE1A15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F402B-3A5B-4614-B137-C8EDB701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1A3A9-4FA8-4D26-987F-4C9358B1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2CF65-D51A-49D7-AF15-95CCED42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FBFF2-3383-4ECE-ACFA-3D48AF6C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5A7C1-0DF2-4CB2-89D4-A3CA8E45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75936-CEEB-4E21-BE66-C4924237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57FEF-6F5A-4B5F-88C7-84C1A882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DD43B-E925-4305-B9D5-DD1B293A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04CC5-1C71-45DF-AE4C-17AABF49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37550-8C71-48EF-B708-BEF209D0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85B-5DAF-412F-8420-E2312AEC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B0927-BEED-41AD-8FC5-7FC4E5CC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83AE7-16C4-4A68-A9F4-0A79922E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E769E-1F93-4CA3-9CCB-6E96F43E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524AF-EA99-476F-B9FA-88E87E61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FB669-CB17-49F9-B677-BCCCDB7D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5254E-AE20-4309-886A-BBB54FC6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458FC-CD95-4D84-8393-6AA50245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AB7C3-61C0-47F3-B32C-7E9D0A81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8ED6B-B67D-42E8-8534-7E05B25B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309B9-83D1-43B6-96EB-F3DEA0C8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7ED-E7DA-4D4B-A1DF-E08E6F7D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8EF21-5528-4622-9061-C9D79EFE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C0194-6F65-4812-B108-ACC713F1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1D72C-38E9-4E89-96E9-EF97E532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F0B2A-B672-4A77-952C-EAE49457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ABD7C-8C5F-4895-8ED7-BE2054BE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78B26-70F2-4D0A-A996-0B40ECAA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26FAA-8240-44E6-9755-5948DE5F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063F3-36A4-4F18-BD04-FF5BDA4D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4F3B3-7C92-4365-A877-43607429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4013D-3CB8-49A9-A766-6FE2C14C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136-F020-4244-ADF8-0CABB49B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A313B-D5DF-44F4-86AC-31309A2F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2B304-812E-49EE-A02C-4F8FD544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AF730-30EA-4F9F-A33B-834690C7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6AB5A-53AE-4ACC-9BD5-D2DEC173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2794B-A6D6-4AED-BF7D-5308FB96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CBF6A-A8D7-4913-9E3C-5C7DA0AF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D838A-02B1-4C3B-902D-092DCEC8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140B0-D007-4046-ADDE-6704CE8E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D2BF1-7A46-4138-977C-424F871E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5138E-6901-446F-81BB-0F7A9310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A7B-ADB5-41E1-A0D1-8706E86C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BD99D-0EE4-413B-8A62-C050F046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D984B-8423-48E8-9B72-C30C2170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2CF3F-FA46-4F6C-94FB-68FB897E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51915-7B4E-404E-9EB5-67D8894F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30DB7-B7FB-4CD3-AD7B-0D1D311B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E0EC2-34B6-4C4F-9569-CA845807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EB272-8D82-43A8-82C1-DE56C3F7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363DE-8DA9-48C6-B3BB-71151055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1E924-32FC-498C-A02F-E9C89BDA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00D8E-0D6D-4155-9545-464196ED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5043-46C1-4401-803D-505B47E2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90BF2-5020-4728-8FEE-791D15A1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D096E-4AAA-449C-8F8E-86C9F551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195E4-AE93-45A8-8FFC-E8603544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BCAFE-AF2C-4333-A93C-FFB94701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213FC-A941-4588-9834-5DC4AFD2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0672-5937-4688-8068-637071C8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6E80F-8CB1-4D07-B38C-6D6A39CC440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E5940-2C87-468C-A536-4D53845A32E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9FC01-AC9B-455E-B144-3A80E8B9348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138919-8DD2-494E-999B-90EF721A248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3E6AA-667F-4885-82E7-8D37C9AD406A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87E87-EF14-41EA-8342-420056BE556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B0D73-2B89-437C-8E48-5ED59ADE30C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1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jpeg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4"/>
          <p:cNvSpPr/>
          <p:nvPr/>
        </p:nvSpPr>
        <p:spPr>
          <a:xfrm>
            <a:off x="2484360" y="158760"/>
            <a:ext cx="722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 бюджетное дошкольное образовательное учреждение детский сад №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7183 Нижегородская область, г. Саров, ул. Московская, д. 26 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  info@ds4.edusarov.ru   тел.8(83130) 9237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2" descr="фото 191"/>
          <p:cNvPicPr/>
          <p:nvPr/>
        </p:nvPicPr>
        <p:blipFill>
          <a:blip r:embed="rId1"/>
          <a:stretch/>
        </p:blipFill>
        <p:spPr>
          <a:xfrm>
            <a:off x="442800" y="1954080"/>
            <a:ext cx="4775400" cy="2949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06" name="TextBox 7" descr=""/>
          <p:cNvPicPr/>
          <p:nvPr/>
        </p:nvPicPr>
        <p:blipFill>
          <a:blip r:embed="rId2"/>
          <a:stretch/>
        </p:blipFill>
        <p:spPr>
          <a:xfrm>
            <a:off x="5651640" y="1957320"/>
            <a:ext cx="6095880" cy="2900520"/>
          </a:xfrm>
          <a:prstGeom prst="rect">
            <a:avLst/>
          </a:prstGeom>
          <a:ln w="0">
            <a:noFill/>
          </a:ln>
        </p:spPr>
      </p:pic>
      <p:sp>
        <p:nvSpPr>
          <p:cNvPr id="307" name="TextBox 9"/>
          <p:cNvSpPr/>
          <p:nvPr/>
        </p:nvSpPr>
        <p:spPr>
          <a:xfrm>
            <a:off x="3048120" y="63295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2"/>
          <p:cNvSpPr/>
          <p:nvPr/>
        </p:nvSpPr>
        <p:spPr>
          <a:xfrm>
            <a:off x="2573280" y="220680"/>
            <a:ext cx="87156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4"/>
          <p:cNvSpPr/>
          <p:nvPr/>
        </p:nvSpPr>
        <p:spPr>
          <a:xfrm>
            <a:off x="7978680" y="220680"/>
            <a:ext cx="134784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Прямая соединительная линия 14"/>
          <p:cNvSpPr/>
          <p:nvPr/>
        </p:nvSpPr>
        <p:spPr>
          <a:xfrm>
            <a:off x="6072120" y="220680"/>
            <a:ext cx="0" cy="5910120"/>
          </a:xfrm>
          <a:prstGeom prst="line">
            <a:avLst/>
          </a:prstGeom>
          <a:ln w="9360">
            <a:solidFill>
              <a:srgbClr val="bd582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Рисунок 1" descr=""/>
          <p:cNvPicPr/>
          <p:nvPr/>
        </p:nvPicPr>
        <p:blipFill>
          <a:blip r:embed="rId1"/>
          <a:stretch/>
        </p:blipFill>
        <p:spPr>
          <a:xfrm>
            <a:off x="270000" y="1317600"/>
            <a:ext cx="5476680" cy="399744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7" descr=""/>
          <p:cNvPicPr/>
          <p:nvPr/>
        </p:nvPicPr>
        <p:blipFill>
          <a:blip r:embed="rId2"/>
          <a:stretch/>
        </p:blipFill>
        <p:spPr>
          <a:xfrm>
            <a:off x="6543720" y="1281240"/>
            <a:ext cx="53784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Заголовок 1"/>
          <p:cNvSpPr/>
          <p:nvPr/>
        </p:nvSpPr>
        <p:spPr>
          <a:xfrm>
            <a:off x="1349280" y="2486160"/>
            <a:ext cx="1005840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угольник 1"/>
          <p:cNvSpPr/>
          <p:nvPr/>
        </p:nvSpPr>
        <p:spPr>
          <a:xfrm>
            <a:off x="216000" y="15840"/>
            <a:ext cx="11660040" cy="6335640"/>
          </a:xfrm>
          <a:prstGeom prst="rect">
            <a:avLst/>
          </a:prstGeom>
          <a:solidFill>
            <a:srgbClr val="ffffff">
              <a:alpha val="83000"/>
            </a:srgbClr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90520" y="160200"/>
            <a:ext cx="11611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ТОЧКА ПРОЕК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тимизация эффективного использования пространства кабинета педагога-психолога при создании творческих продуктов в мультстудии «Я творю мир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81040" y="851040"/>
          <a:ext cx="4881600" cy="2543040"/>
        </p:xfrm>
        <a:graphic>
          <a:graphicData uri="http://schemas.openxmlformats.org/drawingml/2006/table">
            <a:tbl>
              <a:tblPr/>
              <a:tblGrid>
                <a:gridCol w="4881600"/>
              </a:tblGrid>
              <a:tr h="225360"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ОВЛЕЧЕННЫЕ ЛИЦА И РАМКИ ПРОЕК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768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азчики процесс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Администрация МБДОУ «Детский сад №4», педаго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метр проект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кабинет педагога-психол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лец процесс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заведующий Е.И. Толмач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и проект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А.А. Ромашкина  - педагог-психолог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а проект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 А.А. Ромашкина – педагог-психолог,  Е.П. Трошина – воспитатель, М.Н. Лощинина – старший воспитатель, Е.И. Толмачева – заведующ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процесса - 01.06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ц процесса  -  04.10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638680" y="849240"/>
          <a:ext cx="5943600" cy="299736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212040"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ОСНОВАНИЕ ВЫБО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53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ой риск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дополнительные затраты времени педагога на подготовку к творческой деятельности по созданию мультфильм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ет опорных схем для наглядного моделирования идеи будущего мультфиль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Потеря времени на распределение професс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Ожидание задания и материал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Нет стандарта хранения материала и оборудования для творчества, отсутствие символов, карточек-сх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Отсутствует система визуал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71640"/>
                          <a:tab algn="l" pos="1943280"/>
                          <a:tab algn="l" pos="2914560"/>
                          <a:tab algn="l" pos="3886200"/>
                          <a:tab algn="l" pos="4857840"/>
                          <a:tab algn="l" pos="5829480"/>
                          <a:tab algn="l" pos="6800760"/>
                          <a:tab algn="l" pos="7772400"/>
                          <a:tab algn="l" pos="8744040"/>
                          <a:tab algn="l" pos="9715680"/>
                          <a:tab algn="l" pos="106869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522360" y="3589200"/>
          <a:ext cx="4881600" cy="2711520"/>
        </p:xfrm>
        <a:graphic>
          <a:graphicData uri="http://schemas.openxmlformats.org/drawingml/2006/table">
            <a:tbl>
              <a:tblPr/>
              <a:tblGrid>
                <a:gridCol w="2841480"/>
                <a:gridCol w="1060560"/>
                <a:gridCol w="979560"/>
              </a:tblGrid>
              <a:tr h="308520">
                <a:tc gridSpan="3"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ЦЕЛИ И ПЛАНОВЫЙ ЭФФ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й 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ой 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40320" rIns="4032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ращение времени подготовки к творческой деятельности по созданию мультфиль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минуты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мину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40320" rIns="4032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кращение времени уборки материалов и оборудования после проведения  творческой деятельности по созданию мультфиль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 мину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 мин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5632560" y="3949560"/>
          <a:ext cx="5956200" cy="2318040"/>
        </p:xfrm>
        <a:graphic>
          <a:graphicData uri="http://schemas.openxmlformats.org/drawingml/2006/table">
            <a:tbl>
              <a:tblPr/>
              <a:tblGrid>
                <a:gridCol w="5956200"/>
              </a:tblGrid>
              <a:tr h="212040"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КЛЮЧЕВЫЕ СОБЫТИЯ ПРОЕК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600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т проекта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6.20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и определение целевого состояния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6.2022 – 24.06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карты текущего состояния –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6.2022 - 10.06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карты целевого состояния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6.2022 - 24.06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дрение улучшения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06.2022 - 31.08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щание по защите подходов внедрения – 31.08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ение результатов и закрытие проектов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09.2022 - 30.09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ршающее совещание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.10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4048200" y="287280"/>
            <a:ext cx="44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ЕЕ СОСТОЯНИЕ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80880" y="4059360"/>
          <a:ext cx="11533320" cy="2286000"/>
        </p:xfrm>
        <a:graphic>
          <a:graphicData uri="http://schemas.openxmlformats.org/drawingml/2006/table">
            <a:tbl>
              <a:tblPr/>
              <a:tblGrid>
                <a:gridCol w="2603520"/>
                <a:gridCol w="8929800"/>
              </a:tblGrid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я реализации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облемы и риск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ой риск – дополнительные затраты времени педагога на подготовку к творческой деятельности по созданию мультфиль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ет опорных схем для наглядного моделирования идеи будущего мультфиль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Потеря времени на распределение професс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Ожидание задания и материал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Нет стандарта хранения материала и оборудования для творчества, отсутствие символов, карточек-сх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Отсутствует система визуализ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16" name="Рисунок 5" descr=""/>
          <p:cNvPicPr/>
          <p:nvPr/>
        </p:nvPicPr>
        <p:blipFill>
          <a:blip r:embed="rId1"/>
          <a:stretch/>
        </p:blipFill>
        <p:spPr>
          <a:xfrm>
            <a:off x="209520" y="1136520"/>
            <a:ext cx="3838680" cy="280368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8" descr=""/>
          <p:cNvPicPr/>
          <p:nvPr/>
        </p:nvPicPr>
        <p:blipFill>
          <a:blip r:embed="rId2"/>
          <a:stretch/>
        </p:blipFill>
        <p:spPr>
          <a:xfrm>
            <a:off x="8143920" y="1060560"/>
            <a:ext cx="3838680" cy="287316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4" descr=""/>
          <p:cNvPicPr/>
          <p:nvPr/>
        </p:nvPicPr>
        <p:blipFill>
          <a:blip r:embed="rId3"/>
          <a:stretch/>
        </p:blipFill>
        <p:spPr>
          <a:xfrm>
            <a:off x="4176720" y="1060560"/>
            <a:ext cx="38386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14"/>
          <p:cNvSpPr/>
          <p:nvPr/>
        </p:nvSpPr>
        <p:spPr>
          <a:xfrm>
            <a:off x="7375680" y="1863720"/>
            <a:ext cx="1101600" cy="784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материала и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2"/>
          <p:cNvSpPr/>
          <p:nvPr/>
        </p:nvSpPr>
        <p:spPr>
          <a:xfrm>
            <a:off x="4041720" y="81000"/>
            <a:ext cx="40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та текущего состоя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41200" y="450720"/>
          <a:ext cx="4943520" cy="973440"/>
        </p:xfrm>
        <a:graphic>
          <a:graphicData uri="http://schemas.openxmlformats.org/drawingml/2006/table">
            <a:tbl>
              <a:tblPr/>
              <a:tblGrid>
                <a:gridCol w="4943520"/>
              </a:tblGrid>
              <a:tr h="124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1852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кущее состояние:                           Це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1852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ПП = 32 минуты                            ВПП = 15 минут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1852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борка (сортировка) = 24 минуты            = 16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104760" y="1884240"/>
          <a:ext cx="1204920" cy="654120"/>
        </p:xfrm>
        <a:graphic>
          <a:graphicData uri="http://schemas.openxmlformats.org/drawingml/2006/table">
            <a:tbl>
              <a:tblPr/>
              <a:tblGrid>
                <a:gridCol w="1204920"/>
              </a:tblGrid>
              <a:tr h="654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ка идеи будущего мультфиль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203480" y="3527280"/>
          <a:ext cx="3878280" cy="2955960"/>
        </p:xfrm>
        <a:graphic>
          <a:graphicData uri="http://schemas.openxmlformats.org/drawingml/2006/table">
            <a:tbl>
              <a:tblPr/>
              <a:tblGrid>
                <a:gridCol w="3878280"/>
              </a:tblGrid>
              <a:tr h="295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 опорных схем для наглядного моделирования идеи будущего мультфиль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теря времени на распределение професс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жидание задания и материа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 стандарта хранения материала и оборудования для творчества, отсутствие символов, карточек-сх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лишнее перемещ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1925640" y="1503360"/>
          <a:ext cx="1363680" cy="1357200"/>
        </p:xfrm>
        <a:graphic>
          <a:graphicData uri="http://schemas.openxmlformats.org/drawingml/2006/table">
            <a:tbl>
              <a:tblPr/>
              <a:tblGrid>
                <a:gridCol w="1363680"/>
              </a:tblGrid>
              <a:tr h="136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пределение детей на профессии (сценарист, аниматор, декоратор, оператор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5" name="Стрелка: вправо 11"/>
          <p:cNvSpPr/>
          <p:nvPr/>
        </p:nvSpPr>
        <p:spPr>
          <a:xfrm>
            <a:off x="1357200" y="2120760"/>
            <a:ext cx="544680" cy="27972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fffff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Стрелка: вправо 12"/>
          <p:cNvSpPr/>
          <p:nvPr/>
        </p:nvSpPr>
        <p:spPr>
          <a:xfrm>
            <a:off x="3308400" y="2081160"/>
            <a:ext cx="666720" cy="30636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fff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Стрелка: вправо 15"/>
          <p:cNvSpPr/>
          <p:nvPr/>
        </p:nvSpPr>
        <p:spPr>
          <a:xfrm>
            <a:off x="5091120" y="2122560"/>
            <a:ext cx="627120" cy="276120"/>
          </a:xfrm>
          <a:prstGeom prst="rightArrow">
            <a:avLst>
              <a:gd name="adj1" fmla="val 50000"/>
              <a:gd name="adj2" fmla="val 49808"/>
            </a:avLst>
          </a:prstGeom>
          <a:solidFill>
            <a:srgbClr val="fffff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4030560" y="1855800"/>
          <a:ext cx="1125720" cy="698400"/>
        </p:xfrm>
        <a:graphic>
          <a:graphicData uri="http://schemas.openxmlformats.org/drawingml/2006/table">
            <a:tbl>
              <a:tblPr/>
              <a:tblGrid>
                <a:gridCol w="1125720"/>
              </a:tblGrid>
              <a:tr h="69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иск  и набор необходимого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9" name="Звезда: 16 точек 19"/>
          <p:cNvSpPr/>
          <p:nvPr/>
        </p:nvSpPr>
        <p:spPr>
          <a:xfrm>
            <a:off x="2276640" y="2971800"/>
            <a:ext cx="649080" cy="585720"/>
          </a:xfrm>
          <a:custGeom>
            <a:avLst/>
            <a:gdLst>
              <a:gd name="textAreaLeft" fmla="*/ 147960 w 649080"/>
              <a:gd name="textAreaRight" fmla="*/ 501120 w 649080"/>
              <a:gd name="textAreaTop" fmla="*/ 133560 h 585720"/>
              <a:gd name="textAreaBottom" fmla="*/ 452160 h 58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Полилиния: фигура 22"/>
          <p:cNvSpPr/>
          <p:nvPr/>
        </p:nvSpPr>
        <p:spPr>
          <a:xfrm>
            <a:off x="1370160" y="1635120"/>
            <a:ext cx="465120" cy="488880"/>
          </a:xfrm>
          <a:custGeom>
            <a:avLst/>
            <a:gdLst/>
            <a:ahLst/>
            <a:rect l="l" t="t" r="r" b="b"/>
            <a:pathLst>
              <a:path w="897924" h="677068">
                <a:moveTo>
                  <a:pt x="0" y="561295"/>
                </a:moveTo>
                <a:cubicBezTo>
                  <a:pt x="21281" y="642987"/>
                  <a:pt x="42562" y="724679"/>
                  <a:pt x="98854" y="643674"/>
                </a:cubicBezTo>
                <a:cubicBezTo>
                  <a:pt x="155146" y="562669"/>
                  <a:pt x="251254" y="171371"/>
                  <a:pt x="337751" y="75263"/>
                </a:cubicBezTo>
                <a:cubicBezTo>
                  <a:pt x="424248" y="-20845"/>
                  <a:pt x="549189" y="-26337"/>
                  <a:pt x="617838" y="67025"/>
                </a:cubicBezTo>
                <a:cubicBezTo>
                  <a:pt x="686487" y="160387"/>
                  <a:pt x="702962" y="562668"/>
                  <a:pt x="749643" y="635436"/>
                </a:cubicBezTo>
                <a:cubicBezTo>
                  <a:pt x="796324" y="708204"/>
                  <a:pt x="847124" y="605917"/>
                  <a:pt x="897924" y="503630"/>
                </a:cubicBezTo>
              </a:path>
            </a:pathLst>
          </a:cu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Полилиния: фигура 23"/>
          <p:cNvSpPr/>
          <p:nvPr/>
        </p:nvSpPr>
        <p:spPr>
          <a:xfrm>
            <a:off x="3460680" y="1646280"/>
            <a:ext cx="414360" cy="457200"/>
          </a:xfrm>
          <a:custGeom>
            <a:avLst/>
            <a:gdLst/>
            <a:ahLst/>
            <a:rect l="l" t="t" r="r" b="b"/>
            <a:pathLst>
              <a:path w="897924" h="677068">
                <a:moveTo>
                  <a:pt x="0" y="561295"/>
                </a:moveTo>
                <a:cubicBezTo>
                  <a:pt x="21281" y="642987"/>
                  <a:pt x="42562" y="724679"/>
                  <a:pt x="98854" y="643674"/>
                </a:cubicBezTo>
                <a:cubicBezTo>
                  <a:pt x="155146" y="562669"/>
                  <a:pt x="251254" y="171371"/>
                  <a:pt x="337751" y="75263"/>
                </a:cubicBezTo>
                <a:cubicBezTo>
                  <a:pt x="424248" y="-20845"/>
                  <a:pt x="549189" y="-26337"/>
                  <a:pt x="617838" y="67025"/>
                </a:cubicBezTo>
                <a:cubicBezTo>
                  <a:pt x="686487" y="160387"/>
                  <a:pt x="702962" y="562668"/>
                  <a:pt x="749643" y="635436"/>
                </a:cubicBezTo>
                <a:cubicBezTo>
                  <a:pt x="796324" y="708204"/>
                  <a:pt x="847124" y="605917"/>
                  <a:pt x="897924" y="503630"/>
                </a:cubicBezTo>
              </a:path>
            </a:pathLst>
          </a:cu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184720" y="3627360"/>
          <a:ext cx="6675480" cy="2135160"/>
        </p:xfrm>
        <a:graphic>
          <a:graphicData uri="http://schemas.openxmlformats.org/drawingml/2006/table">
            <a:tbl>
              <a:tblPr/>
              <a:tblGrid>
                <a:gridCol w="2673360"/>
                <a:gridCol w="1876320"/>
                <a:gridCol w="2125800"/>
              </a:tblGrid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бл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енная пр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2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дагог и воспитанники затрачивают много времени на поиск необходимого оборудования, подготовку к творческому процессу создания мультфильма  и  уборку материала и оборудования посл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стандарта хранения материала и оборудования для творчества, отсутствие символов, карточек-сх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делирование эффективной системы хранения и визуализации для организаци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я для создания творческих продуктов в мультсту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5676840" y="1798560"/>
          <a:ext cx="1116000" cy="835200"/>
        </p:xfrm>
        <a:graphic>
          <a:graphicData uri="http://schemas.openxmlformats.org/drawingml/2006/table">
            <a:tbl>
              <a:tblPr/>
              <a:tblGrid>
                <a:gridCol w="1116000"/>
              </a:tblGrid>
              <a:tr h="835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орческий процесс создания мультфиль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Звезда: 16 точек 19"/>
          <p:cNvSpPr/>
          <p:nvPr/>
        </p:nvSpPr>
        <p:spPr>
          <a:xfrm>
            <a:off x="1290600" y="2487600"/>
            <a:ext cx="649440" cy="5875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33920 h 587520"/>
              <a:gd name="textAreaBottom" fmla="*/ 453600 h 58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Звезда: 16 точек 19"/>
          <p:cNvSpPr/>
          <p:nvPr/>
        </p:nvSpPr>
        <p:spPr>
          <a:xfrm>
            <a:off x="3294000" y="2441520"/>
            <a:ext cx="649440" cy="585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33560 h 585720"/>
              <a:gd name="textAreaBottom" fmla="*/ 452160 h 58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олилиния: фигура 23"/>
          <p:cNvSpPr/>
          <p:nvPr/>
        </p:nvSpPr>
        <p:spPr>
          <a:xfrm>
            <a:off x="5237280" y="1611360"/>
            <a:ext cx="414360" cy="457200"/>
          </a:xfrm>
          <a:custGeom>
            <a:avLst/>
            <a:gdLst/>
            <a:ahLst/>
            <a:rect l="l" t="t" r="r" b="b"/>
            <a:pathLst>
              <a:path w="897924" h="677068">
                <a:moveTo>
                  <a:pt x="0" y="561295"/>
                </a:moveTo>
                <a:cubicBezTo>
                  <a:pt x="21281" y="642987"/>
                  <a:pt x="42562" y="724679"/>
                  <a:pt x="98854" y="643674"/>
                </a:cubicBezTo>
                <a:cubicBezTo>
                  <a:pt x="155146" y="562669"/>
                  <a:pt x="251254" y="171371"/>
                  <a:pt x="337751" y="75263"/>
                </a:cubicBezTo>
                <a:cubicBezTo>
                  <a:pt x="424248" y="-20845"/>
                  <a:pt x="549189" y="-26337"/>
                  <a:pt x="617838" y="67025"/>
                </a:cubicBezTo>
                <a:cubicBezTo>
                  <a:pt x="686487" y="160387"/>
                  <a:pt x="702962" y="562668"/>
                  <a:pt x="749643" y="635436"/>
                </a:cubicBezTo>
                <a:cubicBezTo>
                  <a:pt x="796324" y="708204"/>
                  <a:pt x="847124" y="605917"/>
                  <a:pt x="897924" y="503630"/>
                </a:cubicBezTo>
              </a:path>
            </a:pathLst>
          </a:cu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Звезда: 16 точек 19"/>
          <p:cNvSpPr/>
          <p:nvPr/>
        </p:nvSpPr>
        <p:spPr>
          <a:xfrm>
            <a:off x="528480" y="4019400"/>
            <a:ext cx="649440" cy="586080"/>
          </a:xfrm>
          <a:custGeom>
            <a:avLst/>
            <a:gdLst>
              <a:gd name="textAreaLeft" fmla="*/ 148320 w 649440"/>
              <a:gd name="textAreaRight" fmla="*/ 501120 w 649440"/>
              <a:gd name="textAreaTop" fmla="*/ 133560 h 586080"/>
              <a:gd name="textAreaBottom" fmla="*/ 452520 h 58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Звезда: 16 точек 19"/>
          <p:cNvSpPr/>
          <p:nvPr/>
        </p:nvSpPr>
        <p:spPr>
          <a:xfrm>
            <a:off x="503280" y="3446640"/>
            <a:ext cx="649080" cy="585720"/>
          </a:xfrm>
          <a:custGeom>
            <a:avLst/>
            <a:gdLst>
              <a:gd name="textAreaLeft" fmla="*/ 147960 w 649080"/>
              <a:gd name="textAreaRight" fmla="*/ 501120 w 649080"/>
              <a:gd name="textAreaTop" fmla="*/ 133560 h 585720"/>
              <a:gd name="textAreaBottom" fmla="*/ 452160 h 58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Звезда: 16 точек 19"/>
          <p:cNvSpPr/>
          <p:nvPr/>
        </p:nvSpPr>
        <p:spPr>
          <a:xfrm>
            <a:off x="528480" y="4648320"/>
            <a:ext cx="649440" cy="585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33560 h 585720"/>
              <a:gd name="textAreaBottom" fmla="*/ 452160 h 58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оугольник 1"/>
          <p:cNvSpPr/>
          <p:nvPr/>
        </p:nvSpPr>
        <p:spPr>
          <a:xfrm>
            <a:off x="135000" y="2658960"/>
            <a:ext cx="1063440" cy="15876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оугольник 52"/>
          <p:cNvSpPr/>
          <p:nvPr/>
        </p:nvSpPr>
        <p:spPr>
          <a:xfrm>
            <a:off x="2055960" y="2892600"/>
            <a:ext cx="1063440" cy="15840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Прямоугольник 54"/>
          <p:cNvSpPr/>
          <p:nvPr/>
        </p:nvSpPr>
        <p:spPr>
          <a:xfrm>
            <a:off x="4057560" y="2612880"/>
            <a:ext cx="1063800" cy="15876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Прямоугольник 55"/>
          <p:cNvSpPr/>
          <p:nvPr/>
        </p:nvSpPr>
        <p:spPr>
          <a:xfrm>
            <a:off x="7375680" y="2768760"/>
            <a:ext cx="1063440" cy="16020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Прямая соединительная линия 7"/>
          <p:cNvSpPr/>
          <p:nvPr/>
        </p:nvSpPr>
        <p:spPr>
          <a:xfrm>
            <a:off x="5676840" y="1531800"/>
            <a:ext cx="0" cy="1467000"/>
          </a:xfrm>
          <a:prstGeom prst="line">
            <a:avLst/>
          </a:prstGeom>
          <a:ln w="1260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Прямая соединительная линия 10"/>
          <p:cNvSpPr/>
          <p:nvPr/>
        </p:nvSpPr>
        <p:spPr>
          <a:xfrm flipH="1">
            <a:off x="6759360" y="1503360"/>
            <a:ext cx="12600" cy="1471680"/>
          </a:xfrm>
          <a:prstGeom prst="line">
            <a:avLst/>
          </a:prstGeom>
          <a:ln w="1260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6872400" y="1660680"/>
            <a:ext cx="426960" cy="4698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"/>
          <p:cNvPicPr/>
          <p:nvPr/>
        </p:nvPicPr>
        <p:blipFill>
          <a:blip r:embed="rId2"/>
          <a:stretch/>
        </p:blipFill>
        <p:spPr>
          <a:xfrm>
            <a:off x="8469360" y="2136600"/>
            <a:ext cx="725400" cy="317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"/>
          <p:cNvPicPr/>
          <p:nvPr/>
        </p:nvPicPr>
        <p:blipFill>
          <a:blip r:embed="rId3"/>
          <a:stretch/>
        </p:blipFill>
        <p:spPr>
          <a:xfrm>
            <a:off x="8618400" y="1611360"/>
            <a:ext cx="427320" cy="46980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16"/>
          <p:cNvSpPr/>
          <p:nvPr/>
        </p:nvSpPr>
        <p:spPr>
          <a:xfrm>
            <a:off x="9193320" y="1795320"/>
            <a:ext cx="1095120" cy="866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я на ме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4"/>
          <a:stretch/>
        </p:blipFill>
        <p:spPr>
          <a:xfrm>
            <a:off x="10275840" y="2120760"/>
            <a:ext cx="649440" cy="31752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17"/>
          <p:cNvSpPr/>
          <p:nvPr/>
        </p:nvSpPr>
        <p:spPr>
          <a:xfrm>
            <a:off x="10901520" y="1795320"/>
            <a:ext cx="1217520" cy="817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итогового продукта (мультфиль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оугольник 43"/>
          <p:cNvSpPr/>
          <p:nvPr/>
        </p:nvSpPr>
        <p:spPr>
          <a:xfrm>
            <a:off x="10993320" y="2730600"/>
            <a:ext cx="1063800" cy="16020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оугольник 21"/>
          <p:cNvSpPr/>
          <p:nvPr/>
        </p:nvSpPr>
        <p:spPr>
          <a:xfrm>
            <a:off x="9217080" y="2738520"/>
            <a:ext cx="1098360" cy="179280"/>
          </a:xfrm>
          <a:prstGeom prst="rect">
            <a:avLst/>
          </a:prstGeom>
          <a:solidFill>
            <a:srgbClr val="ffffff"/>
          </a:solidFill>
          <a:ln w="15840">
            <a:solidFill>
              <a:srgbClr val="6f7b63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5"/>
          <a:stretch/>
        </p:blipFill>
        <p:spPr>
          <a:xfrm>
            <a:off x="10364760" y="1598760"/>
            <a:ext cx="426960" cy="469800"/>
          </a:xfrm>
          <a:prstGeom prst="rect">
            <a:avLst/>
          </a:prstGeom>
          <a:ln w="0">
            <a:noFill/>
          </a:ln>
        </p:spPr>
      </p:pic>
      <p:sp>
        <p:nvSpPr>
          <p:cNvPr id="355" name="Звезда: 16 точек 19"/>
          <p:cNvSpPr/>
          <p:nvPr/>
        </p:nvSpPr>
        <p:spPr>
          <a:xfrm>
            <a:off x="523800" y="5302080"/>
            <a:ext cx="649440" cy="586080"/>
          </a:xfrm>
          <a:custGeom>
            <a:avLst/>
            <a:gdLst>
              <a:gd name="textAreaLeft" fmla="*/ 148320 w 649440"/>
              <a:gd name="textAreaRight" fmla="*/ 501120 w 649440"/>
              <a:gd name="textAreaTop" fmla="*/ 133560 h 586080"/>
              <a:gd name="textAreaBottom" fmla="*/ 452520 h 58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Рисунок 13" descr=""/>
          <p:cNvPicPr/>
          <p:nvPr/>
        </p:nvPicPr>
        <p:blipFill>
          <a:blip r:embed="rId6"/>
          <a:stretch/>
        </p:blipFill>
        <p:spPr>
          <a:xfrm>
            <a:off x="8528040" y="2433600"/>
            <a:ext cx="689040" cy="609480"/>
          </a:xfrm>
          <a:prstGeom prst="rect">
            <a:avLst/>
          </a:prstGeom>
          <a:ln w="0">
            <a:noFill/>
          </a:ln>
        </p:spPr>
      </p:pic>
      <p:sp>
        <p:nvSpPr>
          <p:cNvPr id="357" name="Стрелка: вправо 27"/>
          <p:cNvSpPr/>
          <p:nvPr/>
        </p:nvSpPr>
        <p:spPr>
          <a:xfrm>
            <a:off x="6777000" y="2158920"/>
            <a:ext cx="627120" cy="27468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fffff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Звезда: 16 точек 19"/>
          <p:cNvSpPr/>
          <p:nvPr/>
        </p:nvSpPr>
        <p:spPr>
          <a:xfrm>
            <a:off x="9487080" y="2946240"/>
            <a:ext cx="649080" cy="586080"/>
          </a:xfrm>
          <a:custGeom>
            <a:avLst/>
            <a:gdLst>
              <a:gd name="textAreaLeft" fmla="*/ 147960 w 649080"/>
              <a:gd name="textAreaRight" fmla="*/ 501120 w 649080"/>
              <a:gd name="textAreaTop" fmla="*/ 133560 h 586080"/>
              <a:gd name="textAreaBottom" fmla="*/ 452520 h 58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Звезда: 16 точек 19"/>
          <p:cNvSpPr/>
          <p:nvPr/>
        </p:nvSpPr>
        <p:spPr>
          <a:xfrm>
            <a:off x="523800" y="5950080"/>
            <a:ext cx="649440" cy="585720"/>
          </a:xfrm>
          <a:custGeom>
            <a:avLst/>
            <a:gdLst>
              <a:gd name="textAreaLeft" fmla="*/ 148320 w 649440"/>
              <a:gd name="textAreaRight" fmla="*/ 501120 w 649440"/>
              <a:gd name="textAreaTop" fmla="*/ 133560 h 585720"/>
              <a:gd name="textAreaBottom" fmla="*/ 452160 h 58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Рисунок 31" descr=""/>
          <p:cNvPicPr/>
          <p:nvPr/>
        </p:nvPicPr>
        <p:blipFill>
          <a:blip r:embed="rId7"/>
          <a:stretch/>
        </p:blipFill>
        <p:spPr>
          <a:xfrm>
            <a:off x="5060880" y="2387520"/>
            <a:ext cx="6890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2"/>
          <p:cNvSpPr/>
          <p:nvPr/>
        </p:nvSpPr>
        <p:spPr>
          <a:xfrm>
            <a:off x="4141800" y="92160"/>
            <a:ext cx="40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та целевого состоя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809640" y="2058840"/>
          <a:ext cx="1195200" cy="976320"/>
        </p:xfrm>
        <a:graphic>
          <a:graphicData uri="http://schemas.openxmlformats.org/drawingml/2006/table">
            <a:tbl>
              <a:tblPr/>
              <a:tblGrid>
                <a:gridCol w="1195200"/>
              </a:tblGrid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ка идеи будущего мультфиль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905040" y="3675240"/>
          <a:ext cx="3877920" cy="2868480"/>
        </p:xfrm>
        <a:graphic>
          <a:graphicData uri="http://schemas.openxmlformats.org/drawingml/2006/table">
            <a:tbl>
              <a:tblPr/>
              <a:tblGrid>
                <a:gridCol w="3877920"/>
              </a:tblGrid>
              <a:tr h="2868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лена картотека опорных схем наглядного моделирования идей будущего мультфиль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на доска выб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 контейнеры находятся в свободном доступ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на удобная система визуал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ключение излишних перем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2732040" y="2049480"/>
          <a:ext cx="1649520" cy="977760"/>
        </p:xfrm>
        <a:graphic>
          <a:graphicData uri="http://schemas.openxmlformats.org/drawingml/2006/table">
            <a:tbl>
              <a:tblPr/>
              <a:tblGrid>
                <a:gridCol w="1649520"/>
              </a:tblGrid>
              <a:tr h="977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пределение детей на профессии (сценарист, аниматор, декоратор, оператор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4398840" y="2152800"/>
          <a:ext cx="1379520" cy="725400"/>
        </p:xfrm>
        <a:graphic>
          <a:graphicData uri="http://schemas.openxmlformats.org/drawingml/2006/table">
            <a:tbl>
              <a:tblPr/>
              <a:tblGrid>
                <a:gridCol w="1379520"/>
              </a:tblGrid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иск  и набор необходимого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6" name="Звезда: 16 точек 19"/>
          <p:cNvSpPr/>
          <p:nvPr/>
        </p:nvSpPr>
        <p:spPr>
          <a:xfrm>
            <a:off x="2070000" y="2629080"/>
            <a:ext cx="650880" cy="463320"/>
          </a:xfrm>
          <a:custGeom>
            <a:avLst/>
            <a:gdLst>
              <a:gd name="textAreaLeft" fmla="*/ 148320 w 650880"/>
              <a:gd name="textAreaRight" fmla="*/ 502560 w 650880"/>
              <a:gd name="textAreaTop" fmla="*/ 105840 h 463320"/>
              <a:gd name="textAreaBottom" fmla="*/ 357480 h 463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Звезда: 16 точек 19"/>
          <p:cNvSpPr/>
          <p:nvPr/>
        </p:nvSpPr>
        <p:spPr>
          <a:xfrm>
            <a:off x="266760" y="4211640"/>
            <a:ext cx="649080" cy="446040"/>
          </a:xfrm>
          <a:custGeom>
            <a:avLst/>
            <a:gdLst>
              <a:gd name="textAreaLeft" fmla="*/ 147960 w 649080"/>
              <a:gd name="textAreaRight" fmla="*/ 501120 w 649080"/>
              <a:gd name="textAreaTop" fmla="*/ 101880 h 446040"/>
              <a:gd name="textAreaBottom" fmla="*/ 344160 h 44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Звезда: 16 точек 19"/>
          <p:cNvSpPr/>
          <p:nvPr/>
        </p:nvSpPr>
        <p:spPr>
          <a:xfrm>
            <a:off x="277920" y="3656160"/>
            <a:ext cx="612720" cy="458640"/>
          </a:xfrm>
          <a:custGeom>
            <a:avLst/>
            <a:gdLst>
              <a:gd name="textAreaLeft" fmla="*/ 139680 w 612720"/>
              <a:gd name="textAreaRight" fmla="*/ 473040 w 612720"/>
              <a:gd name="textAreaTop" fmla="*/ 104760 h 458640"/>
              <a:gd name="textAreaBottom" fmla="*/ 353880 h 45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Прямоугольник 54"/>
          <p:cNvSpPr/>
          <p:nvPr/>
        </p:nvSpPr>
        <p:spPr>
          <a:xfrm>
            <a:off x="2917800" y="3086280"/>
            <a:ext cx="1063800" cy="16020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Прямоугольник 55"/>
          <p:cNvSpPr/>
          <p:nvPr/>
        </p:nvSpPr>
        <p:spPr>
          <a:xfrm>
            <a:off x="8318520" y="2963880"/>
            <a:ext cx="1063440" cy="16020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Звезда: 16 точек 19"/>
          <p:cNvSpPr/>
          <p:nvPr/>
        </p:nvSpPr>
        <p:spPr>
          <a:xfrm>
            <a:off x="2786040" y="1593720"/>
            <a:ext cx="531720" cy="463680"/>
          </a:xfrm>
          <a:custGeom>
            <a:avLst/>
            <a:gdLst>
              <a:gd name="textAreaLeft" fmla="*/ 121320 w 531720"/>
              <a:gd name="textAreaRight" fmla="*/ 410400 w 531720"/>
              <a:gd name="textAreaTop" fmla="*/ 105840 h 463680"/>
              <a:gd name="textAreaBottom" fmla="*/ 357840 h 463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6" descr=""/>
          <p:cNvPicPr/>
          <p:nvPr/>
        </p:nvPicPr>
        <p:blipFill>
          <a:blip r:embed="rId1"/>
          <a:stretch/>
        </p:blipFill>
        <p:spPr>
          <a:xfrm>
            <a:off x="5791320" y="1776240"/>
            <a:ext cx="12600" cy="147024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10"/>
          <p:cNvSpPr/>
          <p:nvPr/>
        </p:nvSpPr>
        <p:spPr>
          <a:xfrm>
            <a:off x="5821200" y="2084400"/>
            <a:ext cx="1227240" cy="816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еский процесс создания мультфиль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Звезда: 16 точек 19"/>
          <p:cNvSpPr/>
          <p:nvPr/>
        </p:nvSpPr>
        <p:spPr>
          <a:xfrm>
            <a:off x="7994520" y="1609560"/>
            <a:ext cx="649440" cy="462240"/>
          </a:xfrm>
          <a:custGeom>
            <a:avLst/>
            <a:gdLst>
              <a:gd name="textAreaLeft" fmla="*/ 148320 w 649440"/>
              <a:gd name="textAreaRight" fmla="*/ 501120 w 649440"/>
              <a:gd name="textAreaTop" fmla="*/ 105480 h 462240"/>
              <a:gd name="textAreaBottom" fmla="*/ 356760 h 462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6" descr=""/>
          <p:cNvPicPr/>
          <p:nvPr/>
        </p:nvPicPr>
        <p:blipFill>
          <a:blip r:embed="rId2"/>
          <a:stretch/>
        </p:blipFill>
        <p:spPr>
          <a:xfrm>
            <a:off x="7062840" y="1793880"/>
            <a:ext cx="12600" cy="1469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"/>
          <p:cNvPicPr/>
          <p:nvPr/>
        </p:nvPicPr>
        <p:blipFill>
          <a:blip r:embed="rId3"/>
          <a:stretch/>
        </p:blipFill>
        <p:spPr>
          <a:xfrm>
            <a:off x="7101000" y="2247840"/>
            <a:ext cx="633240" cy="365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"/>
          <p:cNvPicPr/>
          <p:nvPr/>
        </p:nvPicPr>
        <p:blipFill>
          <a:blip r:embed="rId4"/>
          <a:stretch/>
        </p:blipFill>
        <p:spPr>
          <a:xfrm>
            <a:off x="7126200" y="1852560"/>
            <a:ext cx="476280" cy="50004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12"/>
          <p:cNvSpPr/>
          <p:nvPr/>
        </p:nvSpPr>
        <p:spPr>
          <a:xfrm>
            <a:off x="7734240" y="2075040"/>
            <a:ext cx="1098720" cy="8157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материала и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Прямоугольник 13"/>
          <p:cNvSpPr/>
          <p:nvPr/>
        </p:nvSpPr>
        <p:spPr>
          <a:xfrm>
            <a:off x="8850240" y="2075040"/>
            <a:ext cx="1174680" cy="8157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я на ме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Picture 9" descr=""/>
          <p:cNvPicPr/>
          <p:nvPr/>
        </p:nvPicPr>
        <p:blipFill>
          <a:blip r:embed="rId5"/>
          <a:stretch/>
        </p:blipFill>
        <p:spPr>
          <a:xfrm>
            <a:off x="5429160" y="2941560"/>
            <a:ext cx="689040" cy="4874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"/>
          <p:cNvPicPr/>
          <p:nvPr/>
        </p:nvPicPr>
        <p:blipFill>
          <a:blip r:embed="rId6"/>
          <a:stretch/>
        </p:blipFill>
        <p:spPr>
          <a:xfrm>
            <a:off x="10045800" y="2263680"/>
            <a:ext cx="633240" cy="365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"/>
          <p:cNvPicPr/>
          <p:nvPr/>
        </p:nvPicPr>
        <p:blipFill>
          <a:blip r:embed="rId7"/>
          <a:stretch/>
        </p:blipFill>
        <p:spPr>
          <a:xfrm>
            <a:off x="10040760" y="1816200"/>
            <a:ext cx="476280" cy="50004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14"/>
          <p:cNvSpPr/>
          <p:nvPr/>
        </p:nvSpPr>
        <p:spPr>
          <a:xfrm>
            <a:off x="10652040" y="1959120"/>
            <a:ext cx="1311480" cy="904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итогового продукта (мультфиль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Прямоугольник 37"/>
          <p:cNvSpPr/>
          <p:nvPr/>
        </p:nvSpPr>
        <p:spPr>
          <a:xfrm>
            <a:off x="10798200" y="2965320"/>
            <a:ext cx="1062000" cy="16056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Picture 10" descr=""/>
          <p:cNvPicPr/>
          <p:nvPr/>
        </p:nvPicPr>
        <p:blipFill>
          <a:blip r:embed="rId8"/>
          <a:stretch/>
        </p:blipFill>
        <p:spPr>
          <a:xfrm>
            <a:off x="3763800" y="3056040"/>
            <a:ext cx="682920" cy="487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0" descr=""/>
          <p:cNvPicPr/>
          <p:nvPr/>
        </p:nvPicPr>
        <p:blipFill>
          <a:blip r:embed="rId9"/>
          <a:stretch/>
        </p:blipFill>
        <p:spPr>
          <a:xfrm>
            <a:off x="266760" y="4734000"/>
            <a:ext cx="682560" cy="4874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1" descr=""/>
          <p:cNvPicPr/>
          <p:nvPr/>
        </p:nvPicPr>
        <p:blipFill>
          <a:blip r:embed="rId10"/>
          <a:stretch/>
        </p:blipFill>
        <p:spPr>
          <a:xfrm>
            <a:off x="263520" y="5297400"/>
            <a:ext cx="689040" cy="48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8" name=""/>
          <p:cNvGraphicFramePr/>
          <p:nvPr/>
        </p:nvGraphicFramePr>
        <p:xfrm>
          <a:off x="371520" y="541440"/>
          <a:ext cx="4944960" cy="973080"/>
        </p:xfrm>
        <a:graphic>
          <a:graphicData uri="http://schemas.openxmlformats.org/drawingml/2006/table">
            <a:tbl>
              <a:tblPr/>
              <a:tblGrid>
                <a:gridCol w="4944960"/>
              </a:tblGrid>
              <a:tr h="124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1852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кущее состояние:                           Це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1852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ПП = 32 минуты                            ВПП = 15 минут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18525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борка (сортировка) = 24 минуты           = 16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89" name="Picture 7" descr=""/>
          <p:cNvPicPr/>
          <p:nvPr/>
        </p:nvPicPr>
        <p:blipFill>
          <a:blip r:embed="rId11"/>
          <a:stretch/>
        </p:blipFill>
        <p:spPr>
          <a:xfrm>
            <a:off x="2043000" y="2273400"/>
            <a:ext cx="633600" cy="3650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"/>
          <p:cNvPicPr/>
          <p:nvPr/>
        </p:nvPicPr>
        <p:blipFill>
          <a:blip r:embed="rId12"/>
          <a:stretch/>
        </p:blipFill>
        <p:spPr>
          <a:xfrm>
            <a:off x="2092320" y="1812960"/>
            <a:ext cx="476280" cy="50004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8"/>
          <p:cNvSpPr/>
          <p:nvPr/>
        </p:nvSpPr>
        <p:spPr>
          <a:xfrm>
            <a:off x="839880" y="3124080"/>
            <a:ext cx="1063440" cy="15876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Прямоугольник 11"/>
          <p:cNvSpPr/>
          <p:nvPr/>
        </p:nvSpPr>
        <p:spPr>
          <a:xfrm>
            <a:off x="4546440" y="2932200"/>
            <a:ext cx="1063800" cy="160200"/>
          </a:xfrm>
          <a:prstGeom prst="rect">
            <a:avLst/>
          </a:prstGeom>
          <a:solidFill>
            <a:srgbClr val="ffffff"/>
          </a:solidFill>
          <a:ln w="15840">
            <a:solidFill>
              <a:srgbClr val="94a0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м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Звезда: 16 точек 19"/>
          <p:cNvSpPr/>
          <p:nvPr/>
        </p:nvSpPr>
        <p:spPr>
          <a:xfrm>
            <a:off x="8842320" y="1601640"/>
            <a:ext cx="649440" cy="463680"/>
          </a:xfrm>
          <a:custGeom>
            <a:avLst/>
            <a:gdLst>
              <a:gd name="textAreaLeft" fmla="*/ 148320 w 649440"/>
              <a:gd name="textAreaRight" fmla="*/ 501120 w 649440"/>
              <a:gd name="textAreaTop" fmla="*/ 105840 h 463680"/>
              <a:gd name="textAreaBottom" fmla="*/ 357840 h 463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Звезда: 16 точек 19"/>
          <p:cNvSpPr/>
          <p:nvPr/>
        </p:nvSpPr>
        <p:spPr>
          <a:xfrm>
            <a:off x="266760" y="5834160"/>
            <a:ext cx="649080" cy="463320"/>
          </a:xfrm>
          <a:custGeom>
            <a:avLst/>
            <a:gdLst>
              <a:gd name="textAreaLeft" fmla="*/ 147960 w 649080"/>
              <a:gd name="textAreaRight" fmla="*/ 501120 w 649080"/>
              <a:gd name="textAreaTop" fmla="*/ 105840 h 463320"/>
              <a:gd name="textAreaBottom" fmla="*/ 357480 h 463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5184720" y="3627360"/>
          <a:ext cx="6675480" cy="2135160"/>
        </p:xfrm>
        <a:graphic>
          <a:graphicData uri="http://schemas.openxmlformats.org/drawingml/2006/table">
            <a:tbl>
              <a:tblPr/>
              <a:tblGrid>
                <a:gridCol w="2673360"/>
                <a:gridCol w="1876320"/>
                <a:gridCol w="2125800"/>
              </a:tblGrid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бл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енная при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2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дагог и воспитанники затрачивают много времени на поиск необходимого оборудования, подготовку к творческому процессу создания мультфильма  и  уборку материала и оборудования посл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стандарта хранения материала и оборудования для творчества, отсутствие символов, карточек-сх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делирование эффективной системы хранения и визуализации для организаци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я для создания творческих продуктов в мультсту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2"/>
          <p:cNvSpPr/>
          <p:nvPr/>
        </p:nvSpPr>
        <p:spPr>
          <a:xfrm>
            <a:off x="1430280" y="123840"/>
            <a:ext cx="95518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МЕРОПРИЯТИЙ ПО ДОСТИЖЕНИЮ ЦЕЛЕВЫХ ПОКАЗАТЕЛЕЙ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347760" y="498600"/>
          <a:ext cx="11496600" cy="6359400"/>
        </p:xfrm>
        <a:graphic>
          <a:graphicData uri="http://schemas.openxmlformats.org/drawingml/2006/table">
            <a:tbl>
              <a:tblPr/>
              <a:tblGrid>
                <a:gridCol w="658800"/>
                <a:gridCol w="2585880"/>
                <a:gridCol w="2741760"/>
                <a:gridCol w="3141720"/>
                <a:gridCol w="2368440"/>
              </a:tblGrid>
              <a:tr h="5209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меро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 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жидаемый 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й исполн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</a:tr>
              <a:tr h="130968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упка  контейнеров, сбор необходимого количества оборудо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06.22 – 11.07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контейнеров  для систематизации оборудования, наличие необходимого количества оборуд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шкина А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шина Е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</a:tr>
              <a:tr h="9774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места для хранения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7.22 – 8.08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но место для хранения матери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щинина М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шкина А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шина Е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</a:tr>
              <a:tr h="7981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системы хранения оборудо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7.22 – 8.08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ая система хранения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шина Е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щинина М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шкина А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</a:tr>
              <a:tr h="12229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бор и сортировка, карточек, схем по направлению деятельности (сценарист, декоратор, анимато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8.22 – 18.08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а удобная система организации карточек, схем по направлению деятельности (сценарист, декоратор, анимато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шкина А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шина Е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</a:tr>
              <a:tr h="55296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системы визуализации и навиг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8.22 – 24.08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а система визуализации и навига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машкина А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ощинина М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1ce"/>
                    </a:solidFill>
                  </a:tcPr>
                </a:tc>
              </a:tr>
              <a:tr h="9774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6564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ние доски выбора, визуальных обозначений профессий (головные уборы с названием професс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8.22 – 30.08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на доска выбора, визуальные обозначения профессий (головные уборы с названием професс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ошина Е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машкина А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ощинина М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2"/>
          <p:cNvSpPr/>
          <p:nvPr/>
        </p:nvSpPr>
        <p:spPr>
          <a:xfrm>
            <a:off x="3179880" y="13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ОЕ СОСТОЯНИЕ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Рисунок 4" descr=""/>
          <p:cNvPicPr/>
          <p:nvPr/>
        </p:nvPicPr>
        <p:blipFill>
          <a:blip r:embed="rId1"/>
          <a:stretch/>
        </p:blipFill>
        <p:spPr>
          <a:xfrm>
            <a:off x="542880" y="662040"/>
            <a:ext cx="5275440" cy="39560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6" descr=""/>
          <p:cNvPicPr/>
          <p:nvPr/>
        </p:nvPicPr>
        <p:blipFill>
          <a:blip r:embed="rId2"/>
          <a:stretch/>
        </p:blipFill>
        <p:spPr>
          <a:xfrm>
            <a:off x="6043680" y="662040"/>
            <a:ext cx="5273640" cy="395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417600" y="4778280"/>
          <a:ext cx="11250360" cy="1951200"/>
        </p:xfrm>
        <a:graphic>
          <a:graphicData uri="http://schemas.openxmlformats.org/drawingml/2006/table">
            <a:tbl>
              <a:tblPr/>
              <a:tblGrid>
                <a:gridCol w="2923920"/>
                <a:gridCol w="8326440"/>
              </a:tblGrid>
              <a:tr h="195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достижению целевых показ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купка  контейнеров, сбор необходимого количества оборудо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места для хранения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ка системы хранения оборудо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   Подбор и сортировка, карточек, схем по направлению деятельности (сценарист, декоратор, анимато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ние системы визуализации и навиг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ние доски выбора, визуальных обозначений профессий (головные уборы с названием профессий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1" descr=""/>
          <p:cNvPicPr/>
          <p:nvPr/>
        </p:nvPicPr>
        <p:blipFill>
          <a:blip r:embed="rId1"/>
          <a:stretch/>
        </p:blipFill>
        <p:spPr>
          <a:xfrm>
            <a:off x="4506840" y="1084320"/>
            <a:ext cx="2978280" cy="3970440"/>
          </a:xfrm>
          <a:prstGeom prst="rect">
            <a:avLst/>
          </a:prstGeom>
          <a:ln w="0">
            <a:noFill/>
          </a:ln>
        </p:spPr>
      </p:pic>
      <p:sp>
        <p:nvSpPr>
          <p:cNvPr id="403" name="TextBox 2"/>
          <p:cNvSpPr/>
          <p:nvPr/>
        </p:nvSpPr>
        <p:spPr>
          <a:xfrm>
            <a:off x="3048120" y="289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ВАЯ СИСТЕМА ВИЗУАЛ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2"/>
          <a:stretch/>
        </p:blipFill>
        <p:spPr>
          <a:xfrm rot="19386600">
            <a:off x="7656120" y="1944720"/>
            <a:ext cx="1062000" cy="612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"/>
          <p:cNvPicPr/>
          <p:nvPr/>
        </p:nvPicPr>
        <p:blipFill>
          <a:blip r:embed="rId3"/>
          <a:stretch/>
        </p:blipFill>
        <p:spPr>
          <a:xfrm rot="1131600">
            <a:off x="7654680" y="4788000"/>
            <a:ext cx="1069920" cy="61596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6" descr=""/>
          <p:cNvPicPr/>
          <p:nvPr/>
        </p:nvPicPr>
        <p:blipFill>
          <a:blip r:embed="rId4"/>
          <a:stretch/>
        </p:blipFill>
        <p:spPr>
          <a:xfrm>
            <a:off x="8680320" y="1346040"/>
            <a:ext cx="2981520" cy="22370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7"/>
          <p:cNvSpPr/>
          <p:nvPr/>
        </p:nvSpPr>
        <p:spPr>
          <a:xfrm>
            <a:off x="8150400" y="826920"/>
            <a:ext cx="3877920" cy="419400"/>
          </a:xfrm>
          <a:prstGeom prst="rect">
            <a:avLst/>
          </a:prstGeom>
          <a:solidFill>
            <a:srgbClr val="ffff00"/>
          </a:solidFill>
          <a:ln w="12600">
            <a:solidFill>
              <a:srgbClr val="8656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ый цвет – зона декорато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Рисунок 9" descr=""/>
          <p:cNvPicPr/>
          <p:nvPr/>
        </p:nvPicPr>
        <p:blipFill>
          <a:blip r:embed="rId5"/>
          <a:stretch/>
        </p:blipFill>
        <p:spPr>
          <a:xfrm>
            <a:off x="8796240" y="4524480"/>
            <a:ext cx="2981520" cy="223524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10"/>
          <p:cNvSpPr/>
          <p:nvPr/>
        </p:nvSpPr>
        <p:spPr>
          <a:xfrm>
            <a:off x="7964640" y="3976560"/>
            <a:ext cx="4146480" cy="420840"/>
          </a:xfrm>
          <a:prstGeom prst="rect">
            <a:avLst/>
          </a:prstGeom>
          <a:solidFill>
            <a:srgbClr val="ff9933"/>
          </a:solidFill>
          <a:ln w="12600">
            <a:solidFill>
              <a:srgbClr val="8656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нжевый цвет – зона анимато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7" descr=""/>
          <p:cNvPicPr/>
          <p:nvPr/>
        </p:nvPicPr>
        <p:blipFill>
          <a:blip r:embed="rId6"/>
          <a:stretch/>
        </p:blipFill>
        <p:spPr>
          <a:xfrm rot="12671400">
            <a:off x="3315960" y="1904760"/>
            <a:ext cx="996840" cy="574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"/>
          <p:cNvPicPr/>
          <p:nvPr/>
        </p:nvPicPr>
        <p:blipFill>
          <a:blip r:embed="rId7"/>
          <a:stretch/>
        </p:blipFill>
        <p:spPr>
          <a:xfrm rot="9516600">
            <a:off x="3296880" y="4844520"/>
            <a:ext cx="1036800" cy="59868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15" descr=""/>
          <p:cNvPicPr/>
          <p:nvPr/>
        </p:nvPicPr>
        <p:blipFill>
          <a:blip r:embed="rId8"/>
          <a:stretch/>
        </p:blipFill>
        <p:spPr>
          <a:xfrm>
            <a:off x="374760" y="1325520"/>
            <a:ext cx="2981160" cy="223668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16"/>
          <p:cNvSpPr/>
          <p:nvPr/>
        </p:nvSpPr>
        <p:spPr>
          <a:xfrm>
            <a:off x="163440" y="826920"/>
            <a:ext cx="3878280" cy="419400"/>
          </a:xfrm>
          <a:prstGeom prst="rect">
            <a:avLst/>
          </a:prstGeom>
          <a:solidFill>
            <a:srgbClr val="92d050"/>
          </a:solidFill>
          <a:ln w="12600">
            <a:solidFill>
              <a:srgbClr val="8656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цвет – зона сценарис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Рисунок 18" descr=""/>
          <p:cNvPicPr/>
          <p:nvPr/>
        </p:nvPicPr>
        <p:blipFill>
          <a:blip r:embed="rId9"/>
          <a:stretch/>
        </p:blipFill>
        <p:spPr>
          <a:xfrm>
            <a:off x="374760" y="4524480"/>
            <a:ext cx="2987640" cy="223524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19"/>
          <p:cNvSpPr/>
          <p:nvPr/>
        </p:nvSpPr>
        <p:spPr>
          <a:xfrm>
            <a:off x="136440" y="3976560"/>
            <a:ext cx="4024440" cy="420840"/>
          </a:xfrm>
          <a:prstGeom prst="rect">
            <a:avLst/>
          </a:prstGeom>
          <a:solidFill>
            <a:srgbClr val="2fb0f1"/>
          </a:solidFill>
          <a:ln w="12600">
            <a:solidFill>
              <a:srgbClr val="8656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й цвет – зона актеров озву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Рисунок 8" descr=""/>
          <p:cNvPicPr/>
          <p:nvPr/>
        </p:nvPicPr>
        <p:blipFill>
          <a:blip r:embed="rId10"/>
          <a:stretch/>
        </p:blipFill>
        <p:spPr>
          <a:xfrm>
            <a:off x="4925880" y="5153040"/>
            <a:ext cx="21430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Заголовок 1"/>
          <p:cNvSpPr/>
          <p:nvPr/>
        </p:nvSpPr>
        <p:spPr>
          <a:xfrm>
            <a:off x="1095480" y="171360"/>
            <a:ext cx="10058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ОЕ СОСТОЯНИЕ ПРОЦЕС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Рисунок 3" descr=""/>
          <p:cNvPicPr/>
          <p:nvPr/>
        </p:nvPicPr>
        <p:blipFill>
          <a:blip r:embed="rId1"/>
          <a:stretch/>
        </p:blipFill>
        <p:spPr>
          <a:xfrm>
            <a:off x="10069560" y="3121200"/>
            <a:ext cx="1776240" cy="236844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5" descr=""/>
          <p:cNvPicPr/>
          <p:nvPr/>
        </p:nvPicPr>
        <p:blipFill>
          <a:blip r:embed="rId2"/>
          <a:stretch/>
        </p:blipFill>
        <p:spPr>
          <a:xfrm>
            <a:off x="6357960" y="477720"/>
            <a:ext cx="2660760" cy="199548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9" descr=""/>
          <p:cNvPicPr/>
          <p:nvPr/>
        </p:nvPicPr>
        <p:blipFill>
          <a:blip r:embed="rId3"/>
          <a:stretch/>
        </p:blipFill>
        <p:spPr>
          <a:xfrm>
            <a:off x="9190080" y="477720"/>
            <a:ext cx="2660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421" name="Прямоугольник 10"/>
          <p:cNvGrpSpPr/>
          <p:nvPr/>
        </p:nvGrpSpPr>
        <p:grpSpPr>
          <a:xfrm>
            <a:off x="8126280" y="3243240"/>
            <a:ext cx="1785960" cy="2011320"/>
            <a:chOff x="8126280" y="3243240"/>
            <a:chExt cx="1785960" cy="2011320"/>
          </a:xfrm>
        </p:grpSpPr>
        <p:pic>
          <p:nvPicPr>
            <p:cNvPr id="422" name="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8126280" y="3243240"/>
              <a:ext cx="178596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8131320" y="3251160"/>
              <a:ext cx="1776240" cy="19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глядный стенд «Как создается мультфильм» помогает ребенку ориентироваться в последовательности создания творческих продукто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424" name=""/>
          <p:cNvGraphicFramePr/>
          <p:nvPr/>
        </p:nvGraphicFramePr>
        <p:xfrm>
          <a:off x="404640" y="5514840"/>
          <a:ext cx="11382480" cy="1343160"/>
        </p:xfrm>
        <a:graphic>
          <a:graphicData uri="http://schemas.openxmlformats.org/drawingml/2006/table">
            <a:tbl>
              <a:tblPr/>
              <a:tblGrid>
                <a:gridCol w="1835280"/>
                <a:gridCol w="9547200"/>
              </a:tblGrid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игнутые результаты про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ставлена картотека опорных схем наглядного моделирования идей будущего мультфиль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здана доска выбо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Все контейнеры находятся в свободном доступе для дет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здана удобная система визуализ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оздание визуальных обозначений профессий (головные уборы с названием професси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25" name="Рисунок 13" descr=""/>
          <p:cNvPicPr/>
          <p:nvPr/>
        </p:nvPicPr>
        <p:blipFill>
          <a:blip r:embed="rId5"/>
          <a:stretch/>
        </p:blipFill>
        <p:spPr>
          <a:xfrm>
            <a:off x="2619360" y="3552840"/>
            <a:ext cx="2313000" cy="173196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15" descr=""/>
          <p:cNvPicPr/>
          <p:nvPr/>
        </p:nvPicPr>
        <p:blipFill>
          <a:blip r:embed="rId6"/>
          <a:stretch/>
        </p:blipFill>
        <p:spPr>
          <a:xfrm>
            <a:off x="341280" y="477720"/>
            <a:ext cx="2666880" cy="199548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21" descr=""/>
          <p:cNvPicPr/>
          <p:nvPr/>
        </p:nvPicPr>
        <p:blipFill>
          <a:blip r:embed="rId7"/>
          <a:stretch/>
        </p:blipFill>
        <p:spPr>
          <a:xfrm>
            <a:off x="3166920" y="452520"/>
            <a:ext cx="2667240" cy="1995480"/>
          </a:xfrm>
          <a:prstGeom prst="rect">
            <a:avLst/>
          </a:prstGeom>
          <a:ln w="0">
            <a:noFill/>
          </a:ln>
        </p:spPr>
      </p:pic>
      <p:grpSp>
        <p:nvGrpSpPr>
          <p:cNvPr id="428" name="Прямоугольник 22"/>
          <p:cNvGrpSpPr/>
          <p:nvPr/>
        </p:nvGrpSpPr>
        <p:grpSpPr>
          <a:xfrm>
            <a:off x="774720" y="2567160"/>
            <a:ext cx="4924440" cy="871200"/>
            <a:chOff x="774720" y="2567160"/>
            <a:chExt cx="4924440" cy="871200"/>
          </a:xfrm>
        </p:grpSpPr>
        <p:pic>
          <p:nvPicPr>
            <p:cNvPr id="429" name="Прямоугольник 22" descr=""/>
            <p:cNvPicPr/>
            <p:nvPr/>
          </p:nvPicPr>
          <p:blipFill>
            <a:blip r:embed="rId8"/>
            <a:stretch/>
          </p:blipFill>
          <p:spPr>
            <a:xfrm>
              <a:off x="774720" y="2567160"/>
              <a:ext cx="4924440" cy="87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782640" y="2573280"/>
              <a:ext cx="49086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тимизация и визуализация хранения </a:t>
              </a: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рточек, схем, кукол по направлению деятельности (сценарист, декоратор, аниматор) </a:t>
              </a: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зволяет без дополнительных потерь времени найти необходимое оборудование для создания творческих продуктов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1" name="Прямоугольник 23"/>
          <p:cNvGrpSpPr/>
          <p:nvPr/>
        </p:nvGrpSpPr>
        <p:grpSpPr>
          <a:xfrm>
            <a:off x="334800" y="3548160"/>
            <a:ext cx="1994040" cy="1712880"/>
            <a:chOff x="334800" y="3548160"/>
            <a:chExt cx="1994040" cy="1712880"/>
          </a:xfrm>
        </p:grpSpPr>
        <p:pic>
          <p:nvPicPr>
            <p:cNvPr id="432" name="Прямоугольник 23" descr=""/>
            <p:cNvPicPr/>
            <p:nvPr/>
          </p:nvPicPr>
          <p:blipFill>
            <a:blip r:embed="rId9"/>
            <a:stretch/>
          </p:blipFill>
          <p:spPr>
            <a:xfrm>
              <a:off x="334800" y="3548160"/>
              <a:ext cx="199404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341280" y="3552840"/>
              <a:ext cx="198108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стематизированная картотека опорных схем с применением системы визуализации позволяет быстро придумать сюжеты будущих мультфильмо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Прямоугольник 24"/>
          <p:cNvGrpSpPr/>
          <p:nvPr/>
        </p:nvGrpSpPr>
        <p:grpSpPr>
          <a:xfrm>
            <a:off x="6351480" y="2560680"/>
            <a:ext cx="5065920" cy="431640"/>
            <a:chOff x="6351480" y="2560680"/>
            <a:chExt cx="5065920" cy="431640"/>
          </a:xfrm>
        </p:grpSpPr>
        <p:pic>
          <p:nvPicPr>
            <p:cNvPr id="435" name="Прямоугольник 24" descr=""/>
            <p:cNvPicPr/>
            <p:nvPr/>
          </p:nvPicPr>
          <p:blipFill>
            <a:blip r:embed="rId10"/>
            <a:stretch/>
          </p:blipFill>
          <p:spPr>
            <a:xfrm>
              <a:off x="6351480" y="2560680"/>
              <a:ext cx="50659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6357960" y="2563920"/>
              <a:ext cx="50515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ветовая система визуализации позволяет ребенку быстро ориентироваться в пространстве кабинета педагога-психолог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7" name="Рисунок 4" descr=""/>
          <p:cNvPicPr/>
          <p:nvPr/>
        </p:nvPicPr>
        <p:blipFill>
          <a:blip r:embed="rId11"/>
          <a:stretch/>
        </p:blipFill>
        <p:spPr>
          <a:xfrm>
            <a:off x="5140440" y="3535200"/>
            <a:ext cx="231300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1T12:20:15Z</dcterms:created>
  <dc:creator>Александра Ромашкина</dc:creator>
  <dc:description/>
  <dc:language>en-US</dc:language>
  <cp:lastModifiedBy>Александра Ромашкина</cp:lastModifiedBy>
  <dcterms:modified xsi:type="dcterms:W3CDTF">2022-11-14T06:41:10Z</dcterms:modified>
  <cp:revision>6</cp:revision>
  <dc:subject/>
  <dc:title>Презентация PowerPoint</dc:title>
</cp:coreProperties>
</file>